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B18-0F3C-488B-9656-37DEC891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257-7023-4BBA-A554-B3E5B2AE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3F5-DA6D-4DD5-A3A8-087FE26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753-0544-4EEC-8F9A-65B1CFAE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A51-6D7B-4CDD-8B7A-DD7F52F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DF8-750C-4244-8006-76252D6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6E7-F8EC-426F-A98D-DFDC5805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D90-DCB7-4CD3-A7DA-A96CB75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105-4C9C-4DBF-8416-F4E278E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2E7-330B-46ED-8E29-C5AABF8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5B2-B059-4354-9F10-D5CEFC75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B67-AFF2-45C7-B43B-5271C295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4FE-3D17-468E-9CDC-455AA18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B430-269D-46C3-BD6A-B8FF819A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F57C-9BFA-4ACA-AE4A-E75DDDC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8C94-ECDC-4806-B37D-7197F4C0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9CA4-10A0-4C32-BB70-762A6B9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309A-5BAE-444C-AD3D-52BEF1AE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6C26-90C6-4604-8516-084711E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C0F9-91D4-4C93-9B42-DA52F5E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A07E-B078-407D-9DFA-4B0D46BE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6375-1686-4697-A9D0-616F0C7D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E85-F6A3-49F9-B257-71595FA4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8BD3-A35C-4093-9118-3A943EB9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0645-5EF9-4AD6-A854-9D2C2E0C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9AAD-633F-4F19-A8F2-B5B0117F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E949-8D64-4323-8FDA-12EDF9B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AC9A-4C7E-4D0B-ADFB-DCC0C43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1072-F9A6-4D1D-86B1-2F8F272F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90BC-7962-4A0D-976B-D06F54DD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FA96-D5FA-40CD-9FF6-0730521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B414-48DD-4B0A-8853-E3C9550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6E12-7670-4078-B1DA-36F520C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CF24-CD7D-4607-86F7-1A9E054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2FA3-8C2E-4E2A-96A7-766E7293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3AF9-E0A8-4CA7-A555-BA93D64C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3B4B-5AB6-4860-918B-FBB1E024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6C414-DCA9-4FD7-A494-E899B780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F1D83-9C60-476E-B54E-D4771343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DA71-FBD5-4FAF-BE74-A461ADE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FE8C-2D85-4F33-BE3D-E1C6650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FBF3-EE73-4CA7-93D7-0591C254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B05F-A31C-44C6-B5E8-2FE9EE9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F360-DA30-4306-AD6F-FE4915F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B05B-DEE4-4262-BB8E-D2FF738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5197-9EF3-4277-B0EE-3F8AAF3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D697-3DDD-4560-8BC0-285E874F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A268-2C66-4127-B7AA-FE78AF5A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FE61A-035E-4195-B0B8-B1354536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5645-3D9A-463C-80FF-3918363A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3C79-E29B-49D9-BB22-E90B455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645B-CC6A-4096-B0C0-198F94C6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3769-35D8-4F48-BD31-8DBA9E1D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218D-28E4-438D-A50C-07B20A6D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C7D7-17DF-4D10-90F9-1720618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B0F3-7B56-4645-A1E1-13FF812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2390-DBA0-491E-9F55-7EFF937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EB523-515A-4CC9-B4A3-A6FABA9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B071-B44C-4E26-A560-D8914629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D51EF-CA22-4BA5-AE25-C788FF5E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85E8E-ACF0-4FF6-A0AB-280B50A3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FE45E-3153-490F-8A55-A6FFB5F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B0820-2556-41E7-8D56-4FCCAEE8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AF173-8FE2-4562-B95E-43E20F6B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C02FA-9D19-442D-B1BF-5D8F3B8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3A98-C971-46C4-B548-1A46813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6BBB-9627-4B00-91FE-13DB030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EE0AE-1D66-41C5-8026-F81EE502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189D-2E7B-4936-9178-209ED2F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4AEE-C837-44DB-8586-14F84C1A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5EB38-FD32-421A-B25C-2EFF2827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EC03A-0323-47F7-BEAC-07D5F7EB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0B4-5EB2-4C5E-A058-E0501B2F746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9EB-2210-4A32-8EF5-5958622E8FD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FD43-D582-4EF0-B806-1F2D618BBB9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3A13-5090-4085-8323-EE0C8382D000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1D1-0B5E-4160-9EE0-FCF65C161F19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AB0-ADC2-4170-853D-90EEAAB5C8ED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4143240" y="2890800"/>
            <a:ext cx="39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262626"/>
                </a:solidFill>
                <a:latin typeface="Calibri"/>
              </a:rPr>
              <a:t>pemahaman, pengetahuan dan pengalaman terkait bidang seni pedal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4452840" y="313704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ukti Prestasi (Jika Ada/Disaran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4452840" y="301320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13T04:59:16Z</dcterms:modified>
  <cp:revision>33</cp:revision>
  <dc:subject/>
  <dc:title>Slide 1</dc:title>
</cp:coreProperties>
</file>